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0171-5DEB-469E-86F0-2D371B78AB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торые результаты ОС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ы о состоянии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, экологический менеджмент на предприятиях , «Вода и безопасност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1 Добржиш, Чехословак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3 Люцерн, Швейц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5 София, Болга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98 Орхус, 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3 Киев, Укра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07 Белград, Серб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83ED-67ED-4D39-9379-EE710365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9312-5593-4FAC-A2DC-477A60DB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F1C-551E-419A-8102-EF713DA6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400-867B-4500-A12E-C02C1D19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4F9-360D-42B1-B678-55BC97C6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3E7-7E7E-4352-B065-9D1AB069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4596-F9EF-4FA8-9034-C2803942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674-8F06-4B25-BF53-16BC77C3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7E5-0019-42A4-AFC6-FC28CB13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2C3-2144-48F4-B5FF-7A9E6B20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300-BFC7-47B4-92D3-472C85DD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A29-F375-4929-A8BB-36411E34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64C3-79EB-4216-B7D2-8EE41B479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889760" cy="32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ости гражданского общества для укрепления сотрудничества в сфере содействия международному развит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57480"/>
            <a:ext cx="620064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ьга Пониз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-Соглас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0675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е результаты ОС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785520"/>
            <a:ext cx="817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клады о состоянии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а действий по охране окружающей среды для Центральной и Восточной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стратегия ВЕК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 программа для Европ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нъевропейской стратегии сохранения биологического и ландшафтного разнообра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 ЕЭК ООН по доступу к информации, участию общественности, доступу к правосудию по вопросам, касающимс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околы по СЭО, РВПЗ,Протоколы по тяжелым металлам, СОЗ, Стратегия прекращения использования этилированного бензина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ициатива по устойчивой энергетик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ий менеджмент на предприятиях , «Вода и безопасн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тегия ЕЭК ООН по образованию для устойчив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НП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2692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коалиция НПО «Европейский Эко-Фор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борное руководство, проактивно вовлекала НПО разного типа и разных уровн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Эко-Форум» стал официальным партнером ОС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о всех переговорах, мероприятиях, в т.ч.встречах минист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зработке всех доку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рабочих группах по направлен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вует в выборе приоритетов процесса, мониторинге выполнения принятых решений, оценке результатов (в рамках процесса и независим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астие в конкретных проек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о распространяет информацию (Дайждесты, бюллетени, информационные рассыл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национальном уровн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85560"/>
            <a:ext cx="79725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логи с гос.органами по ОСЕ, выработке позиции России по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авительственных делегац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межведомственных рабочих группах по направлениям, связанным с О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о процессе (бюллетени, в т.ч. электронные, С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влечение других НПО как в дискуссии по политике, так и в осуществление програм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гаемые успеха «Эко-Форум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7120" y="1285920"/>
            <a:ext cx="832968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итивное отношение со стороны ключевых правительств и ЕЭК ООН к  НП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ось обеспечить «связку» международного и российского уровня для продвижения идей по тематике ОС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ая работа по расширению Коалиации «Эко-Форума» (на всех уровнях, для разных типов организаций); удалось объяснить важность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кратические принципы работы Коали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ое информирование и отслеживание процесса на международном и национальном уровн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кая позиция, выработанная коллективно (электронная почта, стратегические встречи)  и постоянное ее лобб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тивность и ценность пред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680" y="456840"/>
            <a:ext cx="811512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мы можем сдела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6760" y="1143000"/>
            <a:ext cx="8286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ктивно расширять сеть НПО и вовлекать их в процесс на российском и международном уров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овать эффективное взаимодействие между НП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изировать информационную работу (о ходе и важности СМР), в том числе для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лиять на работу межведомственной комиссии по СМР через своих представ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циировать широкие общественные дискуссии по Стратегии СМР и эффективности СМ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нам нужно от правительств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ое вовлечение в диало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нансовая поддер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частие обществен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99680" y="1928520"/>
            <a:ext cx="81867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мократический принци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ые точки зрения позволяют лучше проработать вопрос и сделать решения более качествен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НИЕ ВАЖНОСТИ НП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ают решения лучше, это демократический принци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участие НПО - не панаце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сть - не автоматичес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ЭТО ВАЖНЫЙ ИНСТР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межсекторальное сотрудничество развивается, но не в эт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ЧЕМ НУЖНО ВОВЛЕЧЕНИЕ НПО В СМР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я получаются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мократическ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йские организации имеют хороший опыт во многих областях, и он может быть пере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 имидж России – повышает политику добрососед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А: пока не многие НПО заинтересованы те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725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8115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ирование широкой общественности и просвещ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национальном уровне – участие в выработке полит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нг  и оценка эффективности полит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конкретных проектах в других странах, С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оссия не поддерживает сама, но и создает проблемы для поддержки иностранных организа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ДДЕРЖКА НПО В ДРУГИХ СТРАН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ие в дискуссиях по полит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нты для осуществления проектов в других стра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ка участия в международных мероприятия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ЖНО ИЗУЧАТЬ ОПЫ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гих стр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ш предыдущий опы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Окружающая среда для Европ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5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 «Окружающая среда для Европы» нацелен на гармонизацию качества окружающей среды и экологической политики на континенте, обеспечение мира, стабильности и устойчив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2968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ающая среда для Европы:</a:t>
            </a:r>
            <a:br>
              <a:rPr sz="28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Конференции минист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82580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жиш, Чехословак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церн, Швейц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фия, Болг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хус, 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ев, Укра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7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град, Серб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9:44:54Z</dcterms:created>
  <dc:creator>none</dc:creator>
  <dc:description/>
  <dc:language>en-US</dc:language>
  <cp:lastModifiedBy>LEGION</cp:lastModifiedBy>
  <dcterms:modified xsi:type="dcterms:W3CDTF">2016-01-05T11:06:06Z</dcterms:modified>
  <cp:revision>9</cp:revision>
  <dc:subject/>
  <dc:title>Возможности гражданского общества для укрепления сотрудничества в сфере содействия международному развитию</dc:title>
</cp:coreProperties>
</file>